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bomb.wav" ContentType="audio/x-wav"/>
  <Override PartName="/ppt/media/explode.wav" ContentType="audio/x-wav"/>
  <Override PartName="/ppt/media/wind.wav" ContentType="audio/x-wav"/>
  <Override PartName="/ppt/media/laser.wav" ContentType="audio/x-wav"/>
  <Override PartName="/ppt/media/arrow.wav" ContentType="audio/x-wav"/>
  <Override PartName="/ppt/media/drumroll.wav" ContentType="audio/x-wav"/>
  <Override PartName="/ppt/media/hammer.wav" ContentType="audio/x-wav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E1A-02A0-44E2-8F71-09DB7A98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F1C-DEDC-48FA-8C52-78916A4E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7CF-E741-4C2B-BC7A-4F5010A1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BD59-B060-47FC-AD71-2D81E9F2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8BEC-15BF-4C6A-A4C5-123D086F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6A1F-3E79-4B6C-AFCA-ECE33BB1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F2CB-8FE5-4074-8D6E-64A65311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360E-3DA3-4B18-9B6B-AAC60DC7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50F3-0490-47E3-B017-B72FC79E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BB0E-C4AA-4652-9ABD-6025F840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9E89-F3EF-4D2E-92EB-B9182296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C7F-9A32-496C-917E-C13294FD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E2C3-BB1D-402F-89EC-FC5C6A87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928B-C986-430D-8869-CC37046B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DE59-26A1-4C5D-9E97-1A5EB1E9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8B2C-3AA7-4C3F-AD89-A846C593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C8D0-7E24-4D87-89F9-70543514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CE2-B0CA-4B20-B060-F50924BD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A0D-1DCF-46C7-8C12-28C293C1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C70-4813-49D4-B92F-BE46063C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AD2-16DB-436B-A917-68FD18B7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CFE-49DE-4943-8A66-A47C2A6E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FCD-A156-4B4B-A807-68E92C18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5FB-D626-4128-8EF3-4AE99484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85E3-ED4C-4E77-ABE6-38022D533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7AC6-7CE0-4847-827B-39528EF3A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drumroll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explode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hammer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wind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hammer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9907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omic Sans MS"/>
              </a:rPr>
              <a:t>Descriptive Writing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3520" y="2743200"/>
            <a:ext cx="6032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Gisha"/>
                <a:ea typeface="Gisha"/>
              </a:rPr>
              <a:t>Make a single SNAPSHOT moment from your life come to life for the reader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66720" y="380880"/>
            <a:ext cx="4496040" cy="1346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isha"/>
                <a:ea typeface="Gisha"/>
              </a:rPr>
              <a:t>Simil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s a comparison using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like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hnny i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ubbor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i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ik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ack beans and rice…the perfect combin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66720" y="304560"/>
            <a:ext cx="4496040" cy="1269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isha"/>
                <a:ea typeface="Gisha"/>
              </a:rPr>
              <a:t>Metaph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25146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s a comparison of two unlikely thing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itho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be such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pi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Leave some for the rest of u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95480" y="304920"/>
            <a:ext cx="6400800" cy="1193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omic Sans MS"/>
              </a:rPr>
              <a:t>Descriptive Writing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523520" y="2133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ve and upload with today’s posting commentary. Let us know where you are in the writing process and if you need anything from your communit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Gisha"/>
                <a:ea typeface="Gisha"/>
              </a:rPr>
              <a:t>1) Silently read today’s mentor text </a:t>
            </a: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Gisha"/>
                <a:ea typeface="Gisha"/>
              </a:rPr>
              <a:t>all the way through. 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Gisha"/>
                <a:ea typeface="Gisha"/>
              </a:rPr>
              <a:t>2) At the top of your page, type and label your </a:t>
            </a:r>
            <a:r>
              <a:rPr b="0" lang="en-US" sz="3200" spc="-1" strike="noStrike" u="sng">
                <a:solidFill>
                  <a:srgbClr val="7030a0"/>
                </a:solidFill>
                <a:uFillTx/>
                <a:latin typeface="Gisha"/>
                <a:ea typeface="Gisha"/>
              </a:rPr>
              <a:t>TELL Statement</a:t>
            </a:r>
            <a:r>
              <a:rPr b="0" lang="en-US" sz="3200" spc="-1" strike="noStrike">
                <a:solidFill>
                  <a:srgbClr val="7030a0"/>
                </a:solidFill>
                <a:latin typeface="Gisha"/>
                <a:ea typeface="Gisha"/>
              </a:rPr>
              <a:t> summing up what the text is mostly about. 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7030a0"/>
                </a:solidFill>
                <a:latin typeface="Gisha"/>
                <a:ea typeface="Gisha"/>
              </a:rPr>
              <a:t>Tell Statement: </a:t>
            </a:r>
            <a:br>
              <a:rPr sz="1600"/>
            </a:br>
            <a:r>
              <a:rPr b="1" lang="en-US" sz="1600" spc="-1" strike="noStrike">
                <a:solidFill>
                  <a:srgbClr val="7030a0"/>
                </a:solidFill>
                <a:latin typeface="Gisha"/>
                <a:ea typeface="Gisha"/>
              </a:rPr>
              <a:t>This  text is about the day the author’s  brother broke her collarbone for the third time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1523880"/>
            <a:ext cx="687060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isha"/>
                <a:ea typeface="Gisha"/>
              </a:rPr>
              <a:t>3) Read the text a second time and annotate your thoughts or in other words, “talk to the text” about what made the author’s description of the moment colorful and alive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6870600" cy="48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Jester"/>
              </a:rPr>
              <a:t>2) </a:t>
            </a:r>
            <a:r>
              <a:rPr b="0" lang="en-US" sz="3200" spc="-1" strike="noStrike">
                <a:solidFill>
                  <a:srgbClr val="7030a0"/>
                </a:solidFill>
                <a:latin typeface="Gisha"/>
                <a:ea typeface="Gisha"/>
              </a:rPr>
              <a:t>Now… open up your rough draft from yesterday and read it silently all the way through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Gisha"/>
                <a:ea typeface="Gisha"/>
              </a:rPr>
              <a:t>Start by writing  and labeling your </a:t>
            </a:r>
            <a:r>
              <a:rPr b="0" lang="en-US" sz="3200" spc="-1" strike="noStrike" u="sng">
                <a:solidFill>
                  <a:srgbClr val="7030a0"/>
                </a:solidFill>
                <a:uFillTx/>
                <a:latin typeface="Gisha"/>
                <a:ea typeface="Gisha"/>
              </a:rPr>
              <a:t>TELL Statement</a:t>
            </a:r>
            <a:r>
              <a:rPr b="0" lang="en-US" sz="3200" spc="-1" strike="noStrike">
                <a:solidFill>
                  <a:srgbClr val="7030a0"/>
                </a:solidFill>
                <a:latin typeface="Gisha"/>
                <a:ea typeface="Gisha"/>
              </a:rPr>
              <a:t> at the top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Jester"/>
              </a:rPr>
              <a:t>Tell Statement: </a:t>
            </a:r>
            <a:r>
              <a:rPr b="0" i="1" lang="en-US" sz="3200" spc="-1" strike="noStrike">
                <a:solidFill>
                  <a:srgbClr val="7030a0"/>
                </a:solidFill>
                <a:latin typeface="Jester"/>
              </a:rPr>
              <a:t>The greatest day of my life was when I won the district spelling be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71800" y="4680"/>
            <a:ext cx="6400800" cy="1595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omic Sans MS"/>
              </a:rPr>
              <a:t>Characteristics of Descriptive Writing 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2437920"/>
            <a:ext cx="723888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day we will begin editing and revis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go through each of the next slides BEFORE beginning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Gish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Use the 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Gisha"/>
                <a:ea typeface="Gisha"/>
              </a:rPr>
              <a:t>5 senses</a:t>
            </a: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 to describe the momen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2895120"/>
            <a:ext cx="28958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e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e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1640" y="3886200"/>
            <a:ext cx="4000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elp your reader hear, smell, taste, see and feel parts of your snapshot momen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Use Image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int a picture with words using details that allow the reader to see in his or her mind the same thing you see in you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Use Specific Descriptive Words</a:t>
            </a:r>
            <a:br>
              <a:rPr sz="3600"/>
            </a:br>
            <a:r>
              <a:rPr b="1" lang="en-US" sz="2000" spc="-1" strike="noStrike">
                <a:solidFill>
                  <a:srgbClr val="7030a0"/>
                </a:solidFill>
                <a:latin typeface="Gisha"/>
                <a:ea typeface="Gisha"/>
              </a:rPr>
              <a:t>vivid verbs – awesome adjecti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0" y="2362320"/>
            <a:ext cx="6019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ead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“good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e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ot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ma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rumpti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l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ac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Use figurative languag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5728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i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aph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it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9:19:23Z</dcterms:created>
  <dc:creator>Tammy</dc:creator>
  <dc:description/>
  <dc:language>en-US</dc:language>
  <cp:lastModifiedBy>Tammy</cp:lastModifiedBy>
  <dcterms:modified xsi:type="dcterms:W3CDTF">2010-09-16T11:10:50Z</dcterms:modified>
  <cp:revision>38</cp:revision>
  <dc:subject/>
  <dc:title>Modes of Writing</dc:title>
</cp:coreProperties>
</file>